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19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35.jpeg" ContentType="image/jpeg"/>
  <Override PartName="/ppt/media/image20.jpeg" ContentType="image/jpeg"/>
  <Override PartName="/ppt/media/image12.png" ContentType="image/png"/>
  <Override PartName="/ppt/media/image3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3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9D2C-A7F8-4DEC-BB8A-3212D16B4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5217-DB4B-4D22-8625-971749470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FA03-6173-433A-AD0B-3558EC993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“ase” mean? How can they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52ED-3799-4368-8450-764F61EC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0B1C-9984-4B30-88AF-109E3657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89B2-B4B8-4D15-ABF6-55827007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2B20-9AB3-4215-93D0-4C633964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0B21-96D7-419A-AB24-AACE209E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8ACE-E35F-4E50-B98C-AC2F35C1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ACAC-BEC9-44FC-B30F-BAB9A56E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D30D-AEF8-4C67-8903-17FA123B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3654-50F7-4D88-AA79-7AF33140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BECB-82F4-4541-B1DF-1DB67603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AA65-22A8-4FA9-9B59-582D9955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E857-30EF-4821-88E1-0E646C82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7DC0-1F7E-4FFE-B7FF-102083A49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 you rememb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DNA stand f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oxyribonucleic a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is DNA found in the cel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monomers of nucleic acids call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else do you know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t least 5 th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6095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ied:  DNA of numerous organis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d:  # of Adenine was always similar to the number of Thymin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# of Cytosine was always similar to the number of Guanine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4" descr="Erwin Chargaff (1905-"/>
          <p:cNvPicPr/>
          <p:nvPr/>
        </p:nvPicPr>
        <p:blipFill>
          <a:blip r:embed="rId1"/>
          <a:stretch/>
        </p:blipFill>
        <p:spPr>
          <a:xfrm>
            <a:off x="6400800" y="1447920"/>
            <a:ext cx="2070000" cy="2894040"/>
          </a:xfrm>
          <a:prstGeom prst="rect">
            <a:avLst/>
          </a:prstGeom>
          <a:ln w="0">
            <a:noFill/>
          </a:ln>
        </p:spPr>
      </p:pic>
      <p:sp>
        <p:nvSpPr>
          <p:cNvPr id="170" name="WordArt 6"/>
          <p:cNvSpPr txBox="1"/>
          <p:nvPr/>
        </p:nvSpPr>
        <p:spPr>
          <a:xfrm rot="20026200">
            <a:off x="5967360" y="5151240"/>
            <a:ext cx="280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4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rwin Chargaf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hargaff’s R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6092"/>
                </a:solidFill>
                <a:latin typeface="Calibri"/>
              </a:rPr>
              <a:t>A always bonds to 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6092"/>
                </a:solidFill>
                <a:latin typeface="Calibri"/>
              </a:rPr>
              <a:t>C always bonds to 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Content Placeholder 6" descr="BasePairing.gif"/>
          <p:cNvPicPr/>
          <p:nvPr/>
        </p:nvPicPr>
        <p:blipFill>
          <a:blip r:embed="rId1"/>
          <a:stretch/>
        </p:blipFill>
        <p:spPr>
          <a:xfrm>
            <a:off x="2590920" y="2819520"/>
            <a:ext cx="434340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 Pai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onds between bases (A &amp; T, G &amp; C) are hydrogen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fairly wea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and T are weak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2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 and C are strong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three main components of the DNA structu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difference between the DNA and RNA backbo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the names of the 4 b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are pyrimidin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are purin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Chargaff’s rule say about pair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salind Frankl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nklin and Maurice Wilkins at King's College, (London, England) performed X-ray diffraction stud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nklin noticed a diffraction pattern in DNA that showed that DNA was 2-stranded and a helix-shap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4" descr="Rosalind Elsie Franklin"/>
          <p:cNvPicPr/>
          <p:nvPr/>
        </p:nvPicPr>
        <p:blipFill>
          <a:blip r:embed="rId1"/>
          <a:stretch/>
        </p:blipFill>
        <p:spPr>
          <a:xfrm>
            <a:off x="6864480" y="914400"/>
            <a:ext cx="2279520" cy="3132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xbdna_br"/>
          <p:cNvPicPr/>
          <p:nvPr/>
        </p:nvPicPr>
        <p:blipFill>
          <a:blip r:embed="rId2"/>
          <a:stretch/>
        </p:blipFill>
        <p:spPr>
          <a:xfrm>
            <a:off x="6616800" y="3886200"/>
            <a:ext cx="25272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atson and Cric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4076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Franklin’s X-ray image to build a model of the DNA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ouble Hel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gar-Phosphate backbone on the out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s on the ins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= T have 2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 have 3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5" descr="watson-crick-dna"/>
          <p:cNvPicPr/>
          <p:nvPr/>
        </p:nvPicPr>
        <p:blipFill>
          <a:blip r:embed="rId1"/>
          <a:stretch/>
        </p:blipFill>
        <p:spPr>
          <a:xfrm>
            <a:off x="4648320" y="1625760"/>
            <a:ext cx="403848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ilding the ladder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5’ to 3’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www.rpi.edu/dept/bcbp/molbiochem/MBWeb/mb2/part1/images/nucleic.gif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5029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281600" y="55227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5520" y="274320"/>
            <a:ext cx="259092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4400" spc="-1" strike="noStrike">
                <a:solidFill>
                  <a:srgbClr val="376092"/>
                </a:solidFill>
                <a:latin typeface="Calibri"/>
              </a:rPr>
              <a:t>Show Mov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5" descr="DNA-colored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DNA"/>
          <p:cNvPicPr/>
          <p:nvPr/>
        </p:nvPicPr>
        <p:blipFill>
          <a:blip r:embed="rId2"/>
          <a:stretch/>
        </p:blipFill>
        <p:spPr>
          <a:xfrm>
            <a:off x="3886200" y="3124080"/>
            <a:ext cx="4857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hromosome is made of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3" descr="c03_19"/>
          <p:cNvPicPr/>
          <p:nvPr/>
        </p:nvPicPr>
        <p:blipFill>
          <a:blip r:embed="rId1"/>
          <a:stretch/>
        </p:blipFill>
        <p:spPr>
          <a:xfrm>
            <a:off x="152280" y="1600200"/>
            <a:ext cx="5765760" cy="4324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03_21"/>
          <p:cNvPicPr/>
          <p:nvPr/>
        </p:nvPicPr>
        <p:blipFill>
          <a:blip r:embed="rId2"/>
          <a:stretch/>
        </p:blipFill>
        <p:spPr>
          <a:xfrm>
            <a:off x="3124080" y="16002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524160" y="1600200"/>
            <a:ext cx="26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cleotides are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uilding blocks of D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5029200" y="2819520"/>
            <a:ext cx="1447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osph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g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ine 7"/>
          <p:cNvSpPr/>
          <p:nvPr/>
        </p:nvSpPr>
        <p:spPr>
          <a:xfrm flipH="1">
            <a:off x="4495320" y="3048120"/>
            <a:ext cx="685800" cy="152280"/>
          </a:xfrm>
          <a:prstGeom prst="line">
            <a:avLst/>
          </a:prstGeom>
          <a:ln w="2844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ine 8"/>
          <p:cNvSpPr/>
          <p:nvPr/>
        </p:nvSpPr>
        <p:spPr>
          <a:xfrm flipH="1" flipV="1">
            <a:off x="1523880" y="2742840"/>
            <a:ext cx="3657600" cy="304920"/>
          </a:xfrm>
          <a:prstGeom prst="line">
            <a:avLst/>
          </a:prstGeom>
          <a:ln w="2844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ine 9"/>
          <p:cNvSpPr/>
          <p:nvPr/>
        </p:nvSpPr>
        <p:spPr>
          <a:xfrm flipH="1">
            <a:off x="5105520" y="3505320"/>
            <a:ext cx="380880" cy="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Line 10"/>
          <p:cNvSpPr/>
          <p:nvPr/>
        </p:nvSpPr>
        <p:spPr>
          <a:xfrm flipH="1" flipV="1">
            <a:off x="2437920" y="3123720"/>
            <a:ext cx="3048120" cy="30492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Line 11"/>
          <p:cNvSpPr/>
          <p:nvPr/>
        </p:nvSpPr>
        <p:spPr>
          <a:xfrm flipH="1" flipV="1">
            <a:off x="2590560" y="2514600"/>
            <a:ext cx="2895480" cy="1295280"/>
          </a:xfrm>
          <a:prstGeom prst="line">
            <a:avLst/>
          </a:prstGeom>
          <a:ln w="2844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Line 12"/>
          <p:cNvSpPr/>
          <p:nvPr/>
        </p:nvSpPr>
        <p:spPr>
          <a:xfrm flipH="1">
            <a:off x="5029200" y="3809880"/>
            <a:ext cx="380880" cy="76320"/>
          </a:xfrm>
          <a:prstGeom prst="line">
            <a:avLst/>
          </a:prstGeom>
          <a:ln w="2844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13"/>
          <p:cNvSpPr/>
          <p:nvPr/>
        </p:nvSpPr>
        <p:spPr>
          <a:xfrm flipH="1">
            <a:off x="5333760" y="3809880"/>
            <a:ext cx="75960" cy="381240"/>
          </a:xfrm>
          <a:prstGeom prst="line">
            <a:avLst/>
          </a:prstGeom>
          <a:ln w="2844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Packa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09_a"/>
          <p:cNvPicPr/>
          <p:nvPr/>
        </p:nvPicPr>
        <p:blipFill>
          <a:blip r:embed="rId1"/>
          <a:stretch/>
        </p:blipFill>
        <p:spPr>
          <a:xfrm>
            <a:off x="685800" y="11620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How do we go from Genotype to Phenotyp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29200" y="2742840"/>
            <a:ext cx="3733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ructure and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apter 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Content Placeholder 6" descr="alleles.gif"/>
          <p:cNvPicPr/>
          <p:nvPr/>
        </p:nvPicPr>
        <p:blipFill>
          <a:blip r:embed="rId1"/>
          <a:stretch/>
        </p:blipFill>
        <p:spPr>
          <a:xfrm>
            <a:off x="380880" y="2819520"/>
            <a:ext cx="447696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1"/>
          <p:cNvSpPr/>
          <p:nvPr/>
        </p:nvSpPr>
        <p:spPr>
          <a:xfrm>
            <a:off x="2603520" y="228600"/>
            <a:ext cx="644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12-10 Chromosome Structur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f Eukary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bio_ch12_6220"/>
          <p:cNvPicPr/>
          <p:nvPr/>
        </p:nvPicPr>
        <p:blipFill>
          <a:blip r:embed="rId1"/>
          <a:stretch/>
        </p:blipFill>
        <p:spPr>
          <a:xfrm>
            <a:off x="1066680" y="2009880"/>
            <a:ext cx="6343920" cy="3132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1143000" y="18651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romoso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209680" y="35416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percoi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4229280" y="3098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i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3352680" y="1789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ucleoso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4572000" y="4989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iston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7467480" y="2246400"/>
            <a:ext cx="7621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eli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2-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Biology Interfac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9120" y="6915240"/>
            <a:ext cx="151452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ideo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38280" y="4971600"/>
            <a:ext cx="77724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he image to play the video seg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ideo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3098520" y="19828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NA Repl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7" descr="forward arrow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43840" y="6010200"/>
            <a:ext cx="703440" cy="673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back-arrow"/>
          <p:cNvPicPr/>
          <p:nvPr/>
        </p:nvPicPr>
        <p:blipFill>
          <a:blip r:embed="rId3"/>
          <a:stretch/>
        </p:blipFill>
        <p:spPr>
          <a:xfrm>
            <a:off x="7332840" y="6010200"/>
            <a:ext cx="703080" cy="673200"/>
          </a:xfrm>
          <a:prstGeom prst="rect">
            <a:avLst/>
          </a:prstGeom>
          <a:ln w="0">
            <a:noFill/>
          </a:ln>
        </p:spPr>
      </p:pic>
      <p:pic>
        <p:nvPicPr>
          <p:cNvPr id="223" name="Chapter 12B.mpg" descr=""/>
          <p:cNvPicPr/>
          <p:nvPr/>
        </p:nvPicPr>
        <p:blipFill>
          <a:blip r:embed="rId4"/>
          <a:stretch/>
        </p:blipFill>
        <p:spPr>
          <a:xfrm>
            <a:off x="838080" y="647640"/>
            <a:ext cx="7581960" cy="568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iming>
    <p:tnLst>
      <p:par>
        <p:cTn id="242" dur="indefinite" restart="never" nodeType="tmRoot">
          <p:childTnLst>
            <p:seq>
              <p:cTn id="243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7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ck-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as the name of the technique Rosalind Franklin used to analyze DNA’s shap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yp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bonds are formed between b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any bonds form between A and 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name of the protein that DNA intertwines wit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 it’s your tu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5" descr="dna2"/>
          <p:cNvPicPr/>
          <p:nvPr/>
        </p:nvPicPr>
        <p:blipFill>
          <a:blip r:embed="rId1"/>
          <a:stretch/>
        </p:blipFill>
        <p:spPr>
          <a:xfrm>
            <a:off x="228600" y="1219320"/>
            <a:ext cx="84582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he model ki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 a stretch of DNA 9 base pairs l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choose the unique order of nucleotides, however make sure that you use at least one A,T,C, and G on each 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here to the color directions gi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ting DNA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base pair bond will be the easiest to brea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-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H+ bonds, instead of 3 like C-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s with lots A-T pairs are called replication orig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lication Orig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rich 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karyotic DNA only has 1 replication orig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karyotic DNA is too big to reproduce in a reasonable amount of time with 1 replication orig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karyotic DNA uses multiple (hundreds) of replication orig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opens replication origi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opened by initiator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is unzipped by HELICAS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icase unzips DNA at the speed of a jet pl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s 2 replication forks moving in opposite dire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DNA Replicate Accuratel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trand of the newly opened double stranded DNA acts as a template for making a new double strand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half (strand) of the original DNA is known as a parent str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ew, complementary strand of DNA that matches is called the daughter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x_chromoso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MI-CONSERVATIVE REPL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½ old DNA coding for ½ new DNA is known as SEMI-CONSERVATIVE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replication: each old  double strand wi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Unzip into 2 single strands, which wi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 Code for a complementary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Which will attach with H+ bonds to for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2 new double strands wit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 1 new single strand and 1 old single strand e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0" descr="bio_ch12_6032"/>
          <p:cNvPicPr/>
          <p:nvPr/>
        </p:nvPicPr>
        <p:blipFill>
          <a:blip r:embed="rId1"/>
          <a:stretch/>
        </p:blipFill>
        <p:spPr>
          <a:xfrm>
            <a:off x="736560" y="2198520"/>
            <a:ext cx="76708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Complementary 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enzyme =DNA Polyme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ases onto 3’ e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job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ases complementary to templat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ofread” and correct new Double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nded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karyote DNA polymerase adds 1000 nucleotides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karyote DNA polymerase adds 100 nucleotides/se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ww.johnkyrk.c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3" descr="bio_ch12_6032"/>
          <p:cNvPicPr/>
          <p:nvPr/>
        </p:nvPicPr>
        <p:blipFill>
          <a:blip r:embed="rId1"/>
          <a:stretch/>
        </p:blipFill>
        <p:spPr>
          <a:xfrm>
            <a:off x="736560" y="2198520"/>
            <a:ext cx="76708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E &amp; CONTR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5" descr="dna"/>
          <p:cNvPicPr/>
          <p:nvPr/>
        </p:nvPicPr>
        <p:blipFill>
          <a:blip r:embed="rId1"/>
          <a:stretch/>
        </p:blipFill>
        <p:spPr>
          <a:xfrm>
            <a:off x="990720" y="2590920"/>
            <a:ext cx="2666880" cy="3448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3_36"/>
          <p:cNvPicPr/>
          <p:nvPr/>
        </p:nvPicPr>
        <p:blipFill>
          <a:blip r:embed="rId2"/>
          <a:stretch/>
        </p:blipFill>
        <p:spPr>
          <a:xfrm>
            <a:off x="4876920" y="2209680"/>
            <a:ext cx="4038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37600" y="809640"/>
            <a:ext cx="89060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NA is composed of four types of nucleotid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NA is made up of a long chain of nucleotid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nucleotide has three par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phosphate grou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deoxyribose sug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nitrogen-containing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Group 15"/>
          <p:cNvGrpSpPr/>
          <p:nvPr/>
        </p:nvGrpSpPr>
        <p:grpSpPr>
          <a:xfrm>
            <a:off x="3664800" y="3733920"/>
            <a:ext cx="4255560" cy="2506320"/>
            <a:chOff x="3664800" y="3733920"/>
            <a:chExt cx="4255560" cy="2506320"/>
          </a:xfrm>
        </p:grpSpPr>
        <p:pic>
          <p:nvPicPr>
            <p:cNvPr id="256" name="Picture 5" descr="bhspe-030802-002"/>
            <p:cNvPicPr/>
            <p:nvPr/>
          </p:nvPicPr>
          <p:blipFill>
            <a:blip r:embed="rId1"/>
            <a:stretch/>
          </p:blipFill>
          <p:spPr>
            <a:xfrm>
              <a:off x="3925800" y="4261680"/>
              <a:ext cx="3975840" cy="134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Group 13"/>
            <p:cNvGrpSpPr/>
            <p:nvPr/>
          </p:nvGrpSpPr>
          <p:grpSpPr>
            <a:xfrm>
              <a:off x="3664800" y="3733920"/>
              <a:ext cx="4255560" cy="2506320"/>
              <a:chOff x="3664800" y="3733920"/>
              <a:chExt cx="4255560" cy="2506320"/>
            </a:xfrm>
          </p:grpSpPr>
          <p:sp>
            <p:nvSpPr>
              <p:cNvPr id="258" name="Text Box 10"/>
              <p:cNvSpPr/>
              <p:nvPr/>
            </p:nvSpPr>
            <p:spPr>
              <a:xfrm>
                <a:off x="3664800" y="3733920"/>
                <a:ext cx="1524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phosphate group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Text Box 11"/>
              <p:cNvSpPr/>
              <p:nvPr/>
            </p:nvSpPr>
            <p:spPr>
              <a:xfrm>
                <a:off x="3831840" y="5948280"/>
                <a:ext cx="17535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eoxyribose (sugar)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Text Box 12"/>
              <p:cNvSpPr/>
              <p:nvPr/>
            </p:nvSpPr>
            <p:spPr>
              <a:xfrm>
                <a:off x="6194160" y="3780000"/>
                <a:ext cx="17262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nitrogen-containing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533520" y="93024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itrogen containing bases are the only difference in the four nucleotid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15" descr="_x0007_231.gif                                                        0006B018&#9;Macintosh                      BEB7E0B0:"/>
          <p:cNvPicPr/>
          <p:nvPr/>
        </p:nvPicPr>
        <p:blipFill>
          <a:blip r:embed="rId1"/>
          <a:stretch/>
        </p:blipFill>
        <p:spPr>
          <a:xfrm>
            <a:off x="228600" y="1974960"/>
            <a:ext cx="8674200" cy="35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2640" y="824040"/>
            <a:ext cx="8915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atson and Crick determined the three-dimensional structure of DNA by building model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2590560"/>
            <a:ext cx="403848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y realized that DNA is a double helix that is made up of a sugar-phosphate backbone on the outside with bases on the insid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4" descr="bhspe-030802-005"/>
          <p:cNvPicPr/>
          <p:nvPr/>
        </p:nvPicPr>
        <p:blipFill>
          <a:blip r:embed="rId1"/>
          <a:stretch/>
        </p:blipFill>
        <p:spPr>
          <a:xfrm rot="186600">
            <a:off x="4571640" y="2437920"/>
            <a:ext cx="40784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533520" y="9223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son and Crick’s discovery built on the work of Rosalind Franklin and Erwin Chargaf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Group 8"/>
          <p:cNvGrpSpPr/>
          <p:nvPr/>
        </p:nvGrpSpPr>
        <p:grpSpPr>
          <a:xfrm>
            <a:off x="1402920" y="3331440"/>
            <a:ext cx="6048000" cy="3395160"/>
            <a:chOff x="1402920" y="3331440"/>
            <a:chExt cx="6048000" cy="3395160"/>
          </a:xfrm>
        </p:grpSpPr>
        <p:pic>
          <p:nvPicPr>
            <p:cNvPr id="268" name="Picture 3" descr="bhspe-030802-006"/>
            <p:cNvPicPr/>
            <p:nvPr/>
          </p:nvPicPr>
          <p:blipFill>
            <a:blip r:embed="rId1"/>
            <a:stretch/>
          </p:blipFill>
          <p:spPr>
            <a:xfrm rot="21309000">
              <a:off x="4952880" y="3657600"/>
              <a:ext cx="238608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" descr="bhspe-030802-004"/>
            <p:cNvPicPr/>
            <p:nvPr/>
          </p:nvPicPr>
          <p:blipFill>
            <a:blip r:embed="rId2"/>
            <a:stretch/>
          </p:blipFill>
          <p:spPr>
            <a:xfrm rot="21295800">
              <a:off x="1539720" y="3428640"/>
              <a:ext cx="234648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Rectangle 7"/>
          <p:cNvSpPr/>
          <p:nvPr/>
        </p:nvSpPr>
        <p:spPr>
          <a:xfrm>
            <a:off x="533520" y="1863720"/>
            <a:ext cx="86104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klin’s x-ray images suggested that DNA was a double helix of even widt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aff’s rules stated that A=T and C=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NA Bank and Alzheimer's Research. Illustration of DNA by L. Kubiak, NIH."/>
          <p:cNvPicPr/>
          <p:nvPr/>
        </p:nvPicPr>
        <p:blipFill>
          <a:blip r:embed="rId1"/>
          <a:stretch/>
        </p:blipFill>
        <p:spPr>
          <a:xfrm>
            <a:off x="304920" y="304920"/>
            <a:ext cx="4114800" cy="61722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uman Gen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billion 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billion individual b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million pag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s (letters) spell out genes (words) that result in the phenotype (the sto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spell out bad stories (disea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C:\Users\jolill\AppData\Local\Microsoft\Windows\Temporary Internet Files\Content.IE5\7CPA9WEO\MCj04326450000[1].png"/>
          <p:cNvPicPr/>
          <p:nvPr/>
        </p:nvPicPr>
        <p:blipFill>
          <a:blip r:embed="rId3"/>
          <a:stretch/>
        </p:blipFill>
        <p:spPr>
          <a:xfrm>
            <a:off x="7810560" y="53352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bhspe-030802-008"/>
          <p:cNvPicPr/>
          <p:nvPr/>
        </p:nvPicPr>
        <p:blipFill>
          <a:blip r:embed="rId1"/>
          <a:stretch/>
        </p:blipFill>
        <p:spPr>
          <a:xfrm>
            <a:off x="4495680" y="1600200"/>
            <a:ext cx="3414960" cy="480060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13"/>
          <p:cNvGrpSpPr/>
          <p:nvPr/>
        </p:nvGrpSpPr>
        <p:grpSpPr>
          <a:xfrm>
            <a:off x="5791320" y="4686480"/>
            <a:ext cx="838080" cy="457200"/>
            <a:chOff x="5791320" y="4686480"/>
            <a:chExt cx="838080" cy="457200"/>
          </a:xfrm>
        </p:grpSpPr>
        <p:sp>
          <p:nvSpPr>
            <p:cNvPr id="273" name="Oval 9"/>
            <p:cNvSpPr/>
            <p:nvPr/>
          </p:nvSpPr>
          <p:spPr>
            <a:xfrm>
              <a:off x="6324840" y="4838760"/>
              <a:ext cx="304560" cy="30492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Unicode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Oval 10"/>
            <p:cNvSpPr/>
            <p:nvPr/>
          </p:nvSpPr>
          <p:spPr>
            <a:xfrm>
              <a:off x="5791320" y="4686480"/>
              <a:ext cx="304920" cy="3045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Unicode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5" name="Group 14"/>
          <p:cNvGrpSpPr/>
          <p:nvPr/>
        </p:nvGrpSpPr>
        <p:grpSpPr>
          <a:xfrm>
            <a:off x="5562720" y="4305240"/>
            <a:ext cx="914400" cy="457200"/>
            <a:chOff x="5562720" y="4305240"/>
            <a:chExt cx="914400" cy="457200"/>
          </a:xfrm>
        </p:grpSpPr>
        <p:sp>
          <p:nvSpPr>
            <p:cNvPr id="276" name="Oval 8"/>
            <p:cNvSpPr/>
            <p:nvPr/>
          </p:nvSpPr>
          <p:spPr>
            <a:xfrm>
              <a:off x="6172200" y="4457520"/>
              <a:ext cx="304920" cy="3049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Unicode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Oval 11"/>
            <p:cNvSpPr/>
            <p:nvPr/>
          </p:nvSpPr>
          <p:spPr>
            <a:xfrm>
              <a:off x="5562720" y="4305240"/>
              <a:ext cx="304560" cy="30492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Unicode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3920" y="8143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otides always pair in the same way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1397160"/>
            <a:ext cx="4724280" cy="11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base-pairing rules show how nucleotides always pair up in DN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528480" y="3552840"/>
            <a:ext cx="434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a pyrimidine (single ring) pairs with a purine (double ring), the helix has a uniform widt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798120" y="2550960"/>
            <a:ext cx="221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irs with 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15"/>
          <p:cNvSpPr/>
          <p:nvPr/>
        </p:nvSpPr>
        <p:spPr>
          <a:xfrm>
            <a:off x="1273680" y="2971800"/>
            <a:ext cx="18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pairs with 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533520" y="9144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ckbone is connected by covalent bon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Group 20"/>
          <p:cNvGrpSpPr/>
          <p:nvPr/>
        </p:nvGrpSpPr>
        <p:grpSpPr>
          <a:xfrm>
            <a:off x="2203560" y="1905120"/>
            <a:ext cx="4425480" cy="4865760"/>
            <a:chOff x="2203560" y="1905120"/>
            <a:chExt cx="4425480" cy="4865760"/>
          </a:xfrm>
        </p:grpSpPr>
        <p:pic>
          <p:nvPicPr>
            <p:cNvPr id="285" name="Picture 4" descr="bhspe-030802-007"/>
            <p:cNvPicPr/>
            <p:nvPr/>
          </p:nvPicPr>
          <p:blipFill>
            <a:blip r:embed="rId1"/>
            <a:stretch/>
          </p:blipFill>
          <p:spPr>
            <a:xfrm>
              <a:off x="2203560" y="1905120"/>
              <a:ext cx="4425480" cy="466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6" name="Group 12"/>
            <p:cNvGrpSpPr/>
            <p:nvPr/>
          </p:nvGrpSpPr>
          <p:grpSpPr>
            <a:xfrm>
              <a:off x="2987640" y="5680800"/>
              <a:ext cx="3597120" cy="1090080"/>
              <a:chOff x="2987640" y="5680800"/>
              <a:chExt cx="3597120" cy="1090080"/>
            </a:xfrm>
          </p:grpSpPr>
          <p:sp>
            <p:nvSpPr>
              <p:cNvPr id="287" name="Text Box 7"/>
              <p:cNvSpPr/>
              <p:nvPr/>
            </p:nvSpPr>
            <p:spPr>
              <a:xfrm>
                <a:off x="2987640" y="6478920"/>
                <a:ext cx="13784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hydrogen bond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Text Box 8"/>
              <p:cNvSpPr/>
              <p:nvPr/>
            </p:nvSpPr>
            <p:spPr>
              <a:xfrm>
                <a:off x="5288400" y="6458040"/>
                <a:ext cx="12963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ovalent bond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Line 10"/>
              <p:cNvSpPr/>
              <p:nvPr/>
            </p:nvSpPr>
            <p:spPr>
              <a:xfrm flipV="1">
                <a:off x="3758040" y="5902560"/>
                <a:ext cx="554760" cy="77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Line 11"/>
              <p:cNvSpPr/>
              <p:nvPr/>
            </p:nvSpPr>
            <p:spPr>
              <a:xfrm flipV="1">
                <a:off x="5534280" y="5680800"/>
                <a:ext cx="777240" cy="88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1" name="Rectangle 22"/>
          <p:cNvSpPr/>
          <p:nvPr/>
        </p:nvSpPr>
        <p:spPr>
          <a:xfrm>
            <a:off x="533520" y="1371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es are connected by hydrogen bon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DNAbases"/>
          <p:cNvPicPr/>
          <p:nvPr/>
        </p:nvPicPr>
        <p:blipFill>
          <a:blip r:embed="rId2"/>
          <a:stretch/>
        </p:blipFill>
        <p:spPr>
          <a:xfrm>
            <a:off x="533520" y="2724120"/>
            <a:ext cx="8001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scovering the function and structure of D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Frederick Griffith, 19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Oswald Avery, 194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lfred Hershey and Martha Chase, 195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Erwin Charga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Rosalind Franklin, 1950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James Watson and Francis Crick, 195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4343400" y="18288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4343400" y="25146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AutoShape 6"/>
          <p:cNvSpPr/>
          <p:nvPr/>
        </p:nvSpPr>
        <p:spPr>
          <a:xfrm>
            <a:off x="4343400" y="32767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4343400" y="40384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AutoShape 8"/>
          <p:cNvSpPr/>
          <p:nvPr/>
        </p:nvSpPr>
        <p:spPr>
          <a:xfrm>
            <a:off x="4343400" y="47242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uman Gen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GGGTCGCGTATCGTAGCTGATGGGGGTAGTATTTTATATGCTGGTAGACAAAACGGTGTACTGCCGTCGTCGTAGTGATGTGCGGCGCCAAAAATTATACTGTGACTGATCGTAGTGTAAAAAAAAAAGTCGTGCTGCTTTTTTCGATCGCGCGTAGTAGCTACGCCGCGGTTCGCGCGTAAGAGACTGATGCGACTGATATATATACGCGCTAGCATATATCTCTCGATCTGATCGTAGATGCTTAAGTTACTAGCTGTCGTATACGTAGTTAGTCGGGTGATGATGCTGTATATATCGCGCTCTATATGCTAGCTAGTGTTGTAGCTAGCTGATTCCCTCGAAGTCTCGTGAATAATCGCGCTTTCGGGGGCTCTCT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1"/>
          <p:cNvSpPr/>
          <p:nvPr/>
        </p:nvSpPr>
        <p:spPr>
          <a:xfrm>
            <a:off x="2603520" y="228600"/>
            <a:ext cx="644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gure 12-10 Chromosome Structur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f Eukary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bio_ch12_6220"/>
          <p:cNvPicPr/>
          <p:nvPr/>
        </p:nvPicPr>
        <p:blipFill>
          <a:blip r:embed="rId1"/>
          <a:stretch/>
        </p:blipFill>
        <p:spPr>
          <a:xfrm>
            <a:off x="1066680" y="2049480"/>
            <a:ext cx="6343920" cy="3132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1143000" y="18651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romoso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209680" y="35416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percoi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229280" y="3098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i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3352680" y="1789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ucleoso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572000" y="4989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iston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7467480" y="2246400"/>
            <a:ext cx="7621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eli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ction 12-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hap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hel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Built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consist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Phosphate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5-C Sugar: deoxyrib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Nitrogenous bases: 4 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5" descr="bio_ch12_6201"/>
          <p:cNvPicPr/>
          <p:nvPr/>
        </p:nvPicPr>
        <p:blipFill>
          <a:blip r:embed="rId1"/>
          <a:stretch/>
        </p:blipFill>
        <p:spPr>
          <a:xfrm>
            <a:off x="4648320" y="106668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otides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ifferences do you se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Content Placeholder 3" descr="nucleotide.jpg"/>
          <p:cNvPicPr/>
          <p:nvPr/>
        </p:nvPicPr>
        <p:blipFill>
          <a:blip r:embed="rId1"/>
          <a:stretch/>
        </p:blipFill>
        <p:spPr>
          <a:xfrm>
            <a:off x="4191120" y="2057400"/>
            <a:ext cx="4647960" cy="441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Object 2"/>
          <p:cNvGraphicFramePr/>
          <p:nvPr/>
        </p:nvGraphicFramePr>
        <p:xfrm>
          <a:off x="457200" y="1905120"/>
          <a:ext cx="4800600" cy="376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05120"/>
                    <a:ext cx="4800600" cy="37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Box 5"/>
          <p:cNvSpPr/>
          <p:nvPr/>
        </p:nvSpPr>
        <p:spPr>
          <a:xfrm>
            <a:off x="1371600" y="5943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4495680" y="5715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the 4 Nitrogenous bas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Calibri"/>
              </a:rPr>
              <a:t>Aden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uan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Cytos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hym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bio_ch12_4125"/>
          <p:cNvPicPr/>
          <p:nvPr/>
        </p:nvPicPr>
        <p:blipFill>
          <a:blip r:embed="rId1"/>
          <a:stretch/>
        </p:blipFill>
        <p:spPr>
          <a:xfrm>
            <a:off x="3352680" y="2057400"/>
            <a:ext cx="5237280" cy="3417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3668760" y="15429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ri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6143760" y="15429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yrimidi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3686040" y="2044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753080" y="2044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5991120" y="205884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t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7286760" y="205884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ym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3986280" y="52736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osphate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6832440" y="5479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oxyrib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21:33:14Z</dcterms:created>
  <dc:creator>Joanne Lilliendahl</dc:creator>
  <dc:description/>
  <dc:language>en-US</dc:language>
  <cp:lastModifiedBy>udsd</cp:lastModifiedBy>
  <dcterms:modified xsi:type="dcterms:W3CDTF">2009-05-08T13:15:00Z</dcterms:modified>
  <cp:revision>44</cp:revision>
  <dc:subject/>
  <dc:title>Slide 1</dc:title>
</cp:coreProperties>
</file>